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820-B10D-4F0D-B6E7-0A288A07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CD9-F997-4FB8-A313-88743F25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3EF-BA58-44C7-A0B3-4E3D83CC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E2E-99B6-48E5-B579-A5E34BE1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DC1-6682-4F3B-91A2-8EBC7B5F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F28-94D3-4845-9851-4C8CDC44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434-5FE7-44A6-B7FD-19343EFA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007-6F44-45AA-8E0F-5728822E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E61-C0FE-4C89-8B29-EBCF3B53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5B9-6FE1-4249-9413-552115D2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F42B-154F-49EE-A525-B20BC398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E1F-2E01-4FDD-BE49-6E96C455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ABB8-8BC4-4039-B44D-82257A2C538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Calibri"/>
              </a:rPr>
              <a:t>Industry In The Developing Worl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NIC’s: South Ko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NIC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a number of countries around the world that can be accurately described as Newly Industrialised Countries (NIC'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ll share the same characteristics, and one of the best examples is South Kor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 Korea is one of the countries in south-east Asia described as being part of the Tiger Econom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NIC Character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creasing exporter to the world market, usually by copying existing products and then re-producing them for a much cheaper pr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pid growth in the manufacturing sector, which results in far more exports and a rapidly rising GD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3 S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hree stages to the development of an NIC, from its traditional society to a developed world socie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me frame for the whole process can be as little as 30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raditional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st industry is labour intensive, concentrating on small cottage-style traditional industries, using local raw material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s could include food processing or textile manufactu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ten, the majority of people are still in the primary sector, doing things such as farm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is little technology and most people have very little mone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st products are imported from abroad, meaning that the country is relying on other for many of its nee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Import Substitution Indus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ountry decides to promote its own indust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companies copy products from well-known companies, and then make them for a far cheaper pri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ountry operates a strict regime of trade tariffs and high taxes for any similar products being imported into the countr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aimed at protecting their own companies whilst they grow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 industries are car manufacture, computer manufacture and the manufacture of other electrical goods, such as hi-fi'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xport Orientated Indus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Once the new companies have become established in their own country they are unleashed upon the world marke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se industries are now capital intensive, using high technology and aimed at making a big profi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GDP of the country starts to rocket, often growing at well over 5% per year, which is an amazing rate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ountry is now described as being an NIC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4:29:36Z</dcterms:created>
  <dc:creator>Dell_02</dc:creator>
  <dc:description/>
  <dc:language>en-US</dc:language>
  <cp:lastModifiedBy>Dell_02</cp:lastModifiedBy>
  <dcterms:modified xsi:type="dcterms:W3CDTF">2011-01-27T04:37:09Z</dcterms:modified>
  <cp:revision>1</cp:revision>
  <dc:subject/>
  <dc:title>Industry In The Developing World</dc:title>
</cp:coreProperties>
</file>